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bomb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0DEEC-40FA-4E0F-BCEB-92723531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D8799-F631-4BBC-864B-93F46779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C9A4-2584-49AF-9DE7-5B2DD5F4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BD978-4588-4D77-B7AA-607E2D3D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3B06-B8A0-4F96-91A5-D8F5C79F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12B9-7315-4904-BFCE-CC46E472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7F11-367B-4DBB-8A7F-BB4B3B40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A3A4-E183-486E-9C2A-2A35E3A7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2517-C0E3-494F-AFF9-43A6E3D6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CF82-9CFD-48E6-ADE4-7F23EA65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C30E-D65D-4D77-8E4F-A29F1388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D4C77-DBCE-4E02-AFE7-D62F4AFA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BD6D-0FC0-4721-BB83-85511771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537B-8AEC-48E0-ADE8-132943B2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84B8-1A1F-4961-A23D-7924ABA0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7302-0187-4483-A1D0-0D8484C6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836F-79A0-4371-9625-54D9ED60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A27E-DBDD-4E24-8AC5-D66BADAD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3DD4-CCBB-42A1-9D4B-0FA6E7B9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741DE-0463-4511-9933-B4653D70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67E5C-0016-4B73-B2F3-F54A8B75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7D8C-4663-4F63-B1CD-9266C2AE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35D52-9636-4C95-B20F-43C1B2B1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435C7-AD91-48A6-B19B-6F994891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944F-6FB0-407F-8711-A05AC2B379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779D-CD2B-4832-A490-CAA09FF0F2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American story part 2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: Tavon Croo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1" name="bomb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Junior Seau, 1969-2012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y 2, 2012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me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FL linebacker Junior Sea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mitted suicide by a self-inflicted gunshot wound to the chest. Later analysis of Seau's brain reveled that he suffered fro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Traumatic Encephalopathy (CT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 form of degenerat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in dam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sociated with repetit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-concuss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uma to the bra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Junior Seau, 1969-2012.jpg"/>
          <p:cNvPicPr/>
          <p:nvPr/>
        </p:nvPicPr>
        <p:blipFill>
          <a:blip r:embed="rId1"/>
          <a:stretch/>
        </p:blipFill>
        <p:spPr>
          <a:xfrm>
            <a:off x="6248520" y="1600200"/>
            <a:ext cx="2895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hina's Manned Space Program: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ne 16, 201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ina launched its fourth manned space expedition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henzhou-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C618N0079H_2012資料照片_N71_copy1.JPG"/>
          <p:cNvPicPr/>
          <p:nvPr/>
        </p:nvPicPr>
        <p:blipFill>
          <a:blip r:embed="rId1"/>
          <a:stretch/>
        </p:blipFill>
        <p:spPr>
          <a:xfrm>
            <a:off x="5029200" y="137160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131660413_31n.jpg"/>
          <p:cNvPicPr/>
          <p:nvPr/>
        </p:nvPicPr>
        <p:blipFill>
          <a:blip r:embed="rId2"/>
          <a:stretch/>
        </p:blipFill>
        <p:spPr>
          <a:xfrm>
            <a:off x="4952880" y="3581280"/>
            <a:ext cx="235296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2012 Summer Olympics in London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ly 27, 201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London, the opening ceremony to the 2013 Summer Olympic Games were hel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London-2012-Olympics-Tower-Bridge.jpg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he Death of the First Man on the Moon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gust 25, 201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tired American Astronaut Neil Armstrong, the first human being to walk on the Moon, died at the age of 82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734px-As11-40-5886.jpg"/>
          <p:cNvPicPr/>
          <p:nvPr/>
        </p:nvPicPr>
        <p:blipFill>
          <a:blip r:embed="rId1"/>
          <a:stretch/>
        </p:blipFill>
        <p:spPr>
          <a:xfrm>
            <a:off x="5257800" y="1523880"/>
            <a:ext cx="38862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The First Obama-Romney Debate: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irst televised debate between the Republican and Democratic presidential nominees, Mitt Romney won a clear victory over President Obam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presidential-debate-1003.jpg"/>
          <p:cNvPicPr/>
          <p:nvPr/>
        </p:nvPicPr>
        <p:blipFill>
          <a:blip r:embed="rId1"/>
          <a:stretch/>
        </p:blipFill>
        <p:spPr>
          <a:xfrm>
            <a:off x="5638680" y="1523880"/>
            <a:ext cx="35053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Obama Bounces Back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6019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Obama and Governor Romney debated for a second time, this time in a "Town Hall" format. In this debate, Obama was much more aggressive, and much more effecti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1017_Debate_02_630x420.jpg"/>
          <p:cNvPicPr/>
          <p:nvPr/>
        </p:nvPicPr>
        <p:blipFill>
          <a:blip r:embed="rId1"/>
          <a:stretch/>
        </p:blipFill>
        <p:spPr>
          <a:xfrm>
            <a:off x="6019920" y="1523880"/>
            <a:ext cx="31240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hina's 5th Manned Space Missi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ne 11, 201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ina launched its fifth manned mission into space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henzhou-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" descr="Shenzhou-10-11June2013-Long-March-2F-Rocket.jpg"/>
          <p:cNvPicPr/>
          <p:nvPr/>
        </p:nvPicPr>
        <p:blipFill>
          <a:blip r:embed="rId1"/>
          <a:stretch/>
        </p:blipFill>
        <p:spPr>
          <a:xfrm>
            <a:off x="4495680" y="17524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ope Francis issue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vember 26, 201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 Papal treatise entitle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vangelii Gaud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pe Franc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nounced unrestrained capitalism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Pope-Francis-2013.jpg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eattle Seahawk'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nuary 19, 201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NFC Championship game between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ttle Seahawk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n Francisco Forty-Nin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Richard-Sherman-Rant-NFC-Championship-19Jan2014.jpg"/>
          <p:cNvPicPr/>
          <p:nvPr/>
        </p:nvPicPr>
        <p:blipFill>
          <a:blip r:embed="rId1"/>
          <a:stretch/>
        </p:blipFill>
        <p:spPr>
          <a:xfrm>
            <a:off x="4952880" y="182880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bruary 2, 201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er Bowl XLVII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ttle Seahawk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feated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ver Bronc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3 to 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Seattle's victory over Denver was the Seahawk's first Super Bowl Championship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Russell-Wilson-Seattle-QB-Super-Bowl-XLVIII.jpg"/>
          <p:cNvPicPr/>
          <p:nvPr/>
        </p:nvPicPr>
        <p:blipFill>
          <a:blip r:embed="rId1"/>
          <a:stretch/>
        </p:blipFill>
        <p:spPr>
          <a:xfrm>
            <a:off x="4876920" y="1676520"/>
            <a:ext cx="42670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Republican Presidential Debate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 Presidential hopefuls debated in Manchester, New Hampshire over 6 months in advance of the New Hampshire Primary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ne 13, 201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Candidates at Republican Debate New Hampshire.jpg"/>
          <p:cNvPicPr/>
          <p:nvPr/>
        </p:nvPicPr>
        <p:blipFill>
          <a:blip r:embed="rId1"/>
          <a:stretch/>
        </p:blipFill>
        <p:spPr>
          <a:xfrm>
            <a:off x="5715000" y="1523880"/>
            <a:ext cx="34290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roops--Surround Ukrainian Military Bas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h 2, 201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med troops who were presumably Russian troops took up posts outside a Ukrainian military base in the Crimea region of Ukraine. Reportedly the base was surrounded by these troop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Ukrainian-Military-Base-Crimea-Surrounded-by-Armed-Men-2MARCH2014.jpg"/>
          <p:cNvPicPr/>
          <p:nvPr/>
        </p:nvPicPr>
        <p:blipFill>
          <a:blip r:embed="rId1"/>
          <a:stretch/>
        </p:blipFill>
        <p:spPr>
          <a:xfrm>
            <a:off x="5410080" y="1523880"/>
            <a:ext cx="3733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ISIS Beheads British Humanitarian Aid Worker David Haines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ptember 13, 2014, an image showing British humanitarian aid worker David Haines prior to his brutal execution at the hands of IS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Daily-Mail-13SEPT2014-photo-release-ISIS-Executes-David-Haines.jpg"/>
          <p:cNvPicPr/>
          <p:nvPr/>
        </p:nvPicPr>
        <p:blipFill>
          <a:blip r:embed="rId1"/>
          <a:stretch/>
        </p:blipFill>
        <p:spPr>
          <a:xfrm>
            <a:off x="4952880" y="1905120"/>
            <a:ext cx="419112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errorism in Franc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03240" y="3443400"/>
            <a:ext cx="6818400" cy="26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ages released by French authorities of two people believed to be connected to a hostage situation in Paris, January 9, 2015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Yahoo.com-copy-French-Law-Enforcement-Images-Hayat-Boumeddiene-and-Amedy-Coulibaly.jpg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French Forces Bring Two Hostage Situations to an End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0528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 brothers suspected of carrying out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harlie Heb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assacre, and who evidently were killed during an assault by French forces on January 9, 2015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BBC-Photos-Cherif-Kouachi-and-Said-Kouachi-Suspects-in-Charlie-Hebdo-Attacks.jpg"/>
          <p:cNvPicPr/>
          <p:nvPr/>
        </p:nvPicPr>
        <p:blipFill>
          <a:blip r:embed="rId1"/>
          <a:stretch/>
        </p:blipFill>
        <p:spPr>
          <a:xfrm>
            <a:off x="4724280" y="1447920"/>
            <a:ext cx="44197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ollege Football Playoff Championship Gam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io State Defeated Oregon, 42 to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nuary 12, 2015 (Monday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AP-Photo-Ohio-State-Runner-Carries-the-Ball-Against-Oregon-National-Championship-Game-Monday-12JAN2015.jpg"/>
          <p:cNvPicPr/>
          <p:nvPr/>
        </p:nvPicPr>
        <p:blipFill>
          <a:blip r:embed="rId1"/>
          <a:stretch/>
        </p:blipFill>
        <p:spPr>
          <a:xfrm>
            <a:off x="4495680" y="1752480"/>
            <a:ext cx="46483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per Bowl XLIX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England Patriots Defeated the Seattle Seahawks, 28 to 24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bruary 1, 2015 (Sunday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Getty-Images-New-England-HC-Bill-Belichick-celebrating-with-Patriots-Player-Darrelle-Revis-after-winning-Super-Bowl-XLIX-versus-the-Seattle-Seahawks-1FEB2015.jpg"/>
          <p:cNvPicPr/>
          <p:nvPr/>
        </p:nvPicPr>
        <p:blipFill>
          <a:blip r:embed="rId1"/>
          <a:stretch/>
        </p:blipFill>
        <p:spPr>
          <a:xfrm>
            <a:off x="5029200" y="1600200"/>
            <a:ext cx="4114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EO of App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gust 24, 201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 Cook, Baldwin County, Alabama n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an alumnus of both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bertsdale High Scho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burn Univers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as nam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ef Executive Officer of Ap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ne of the world's foremost computer compan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200px-Tim_Cook_2009_cropped.jpg"/>
          <p:cNvPicPr/>
          <p:nvPr/>
        </p:nvPicPr>
        <p:blipFill>
          <a:blip r:embed="rId1"/>
          <a:stretch/>
        </p:blipFill>
        <p:spPr>
          <a:xfrm>
            <a:off x="5486400" y="1676520"/>
            <a:ext cx="36576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est coach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14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e Paterno Won his 409th Game at Penn St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AP-Photo-Joe-Paterno-29OCT2011-PSU-After-409th-Victory.jpg"/>
          <p:cNvPicPr/>
          <p:nvPr/>
        </p:nvPicPr>
        <p:blipFill>
          <a:blip r:embed="rId1"/>
          <a:stretch/>
        </p:blipFill>
        <p:spPr>
          <a:xfrm>
            <a:off x="4762440" y="1447920"/>
            <a:ext cx="438156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he Quest for the Republican Nomination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ember 10, 201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publicans presidential candidates debated prior to the Iowa Caucu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1215-final-Republican-Debate-thursday-night_full_380.jpg"/>
          <p:cNvPicPr/>
          <p:nvPr/>
        </p:nvPicPr>
        <p:blipFill>
          <a:blip r:embed="rId1"/>
          <a:stretch/>
        </p:blipFill>
        <p:spPr>
          <a:xfrm>
            <a:off x="5257800" y="1523880"/>
            <a:ext cx="38862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U.S. troop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828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ast American Combat Troops Leave Iraq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ember 18, 2011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U.S.-out-of-Iraq-2011.jpg"/>
          <p:cNvPicPr/>
          <p:nvPr/>
        </p:nvPicPr>
        <p:blipFill>
          <a:blip r:embed="rId1"/>
          <a:stretch/>
        </p:blipFill>
        <p:spPr>
          <a:xfrm>
            <a:off x="4857840" y="1600200"/>
            <a:ext cx="428616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Whitney Houston, 1963-2012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bruary 11, 201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nger and Actress Whitney Houston died of a drug overdo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Whitney-Houston-1963-2012.jpg"/>
          <p:cNvPicPr/>
          <p:nvPr/>
        </p:nvPicPr>
        <p:blipFill>
          <a:blip r:embed="rId1"/>
          <a:stretch/>
        </p:blipFill>
        <p:spPr>
          <a:xfrm>
            <a:off x="5029200" y="1447920"/>
            <a:ext cx="41148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rayvon Martin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e War: The Killing of Trayvon Marti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bruary 26, 201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Trayvon-Martin.jpg"/>
          <p:cNvPicPr/>
          <p:nvPr/>
        </p:nvPicPr>
        <p:blipFill>
          <a:blip r:embed="rId1"/>
          <a:stretch/>
        </p:blipFill>
        <p:spPr>
          <a:xfrm>
            <a:off x="5638680" y="1523880"/>
            <a:ext cx="35053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Richard Land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e War: Southern Baptist Religious Right Political Activist Richard Land, Race, and the Murder of Trayvon Marti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h 31, 201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Richard-Land-photo-portrait.jpg"/>
          <p:cNvPicPr/>
          <p:nvPr/>
        </p:nvPicPr>
        <p:blipFill>
          <a:blip r:embed="rId1"/>
          <a:stretch/>
        </p:blipFill>
        <p:spPr>
          <a:xfrm>
            <a:off x="5867280" y="1600200"/>
            <a:ext cx="32767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8:28:00Z</dcterms:created>
  <dc:creator>user</dc:creator>
  <dc:description/>
  <dc:language>en-US</dc:language>
  <cp:lastModifiedBy>Mark Leavins</cp:lastModifiedBy>
  <dcterms:modified xsi:type="dcterms:W3CDTF">2015-02-20T00:47:12Z</dcterms:modified>
  <cp:revision>4</cp:revision>
  <dc:subject/>
  <dc:title>The American story part 2</dc:title>
</cp:coreProperties>
</file>